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674-F335-482D-9964-6E1A7BE6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376-7837-44B7-8499-278D311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4F6-E33F-4D4E-8CE1-C1B61F63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7D3-ECC8-4BDF-A852-F7BE1525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7C0-D4EB-4847-A52E-80AD6AE0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9C9-D6CA-4E78-B5A5-62575793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39D-1570-44A8-B760-791DEE1B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312-CEA0-486F-8986-8F31480A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A1B-5695-4E9D-A1AF-6208ACA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E3D-8D34-45D0-8CE1-6B70C8C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E47-5FA2-4313-A6A2-F972EE1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2D5-7C39-43F7-BE44-DEA491C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49E1-B23C-47E9-A882-BEADC32C3F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nges BDC plan 2012-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veloping Basin Level Learning Initiatives/Documenta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asonal rice maps were publis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up salinity monitoring stations and conducted regular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up field experiments and demonstrations on rice and brackish water aquacul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performed seeds were distributed among the interested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ducting large, qualitative field studies to know the community involvement in management of water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the key external drivers that are influencing the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aptive management guidelines document was finalized and pract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munications strategy of Ganges BDC was develop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ed gender mainstreaming guide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ite OLM was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challeng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nd documentation in Ganges B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ck of funding in 2012/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unications support for capacity building of G5 personnel from CPW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uture of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opportuniti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rning and documentation in Ganges BD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domain maps as a decision support tool to more effectively scale up the adoption of new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external drivers of change, scenarios and their  effect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ed seed producers to be supplying seed of the improved germ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polder  governance and community-based management guid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opportuniti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rning and documentation in Ganges BD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ed strong linkages between different stakeholders (GO, NGO, Private sectors) through stakeholder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questions about this initi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lan framework for 2012-2013 but there is no target mentioned in this learning initi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tool to know the basin status but need proper regular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2:39:32Z</dcterms:created>
  <dc:creator>eleborgne</dc:creator>
  <dc:description/>
  <dc:language>en-US</dc:language>
  <cp:lastModifiedBy>Emdad</cp:lastModifiedBy>
  <dcterms:modified xsi:type="dcterms:W3CDTF">2012-08-28T09:21:34Z</dcterms:modified>
  <cp:revision>44</cp:revision>
  <dc:subject/>
  <dc:title>PowerPoint Presentation</dc:title>
</cp:coreProperties>
</file>